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7.png" ContentType="image/png"/>
  <Override PartName="/ppt/media/image22.jpeg" ContentType="image/jpeg"/>
  <Override PartName="/ppt/media/image12.wmf" ContentType="image/x-wmf"/>
  <Override PartName="/ppt/media/image8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ld compare to wholes 2/5 vs 2.5/6 = 5/12  or could argue put in 25% more yellow but only 17% more b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ill actually see a variation of this problem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lk about how the problems you tried related to p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aseball bat and scissors, spinner, paint c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12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awing avoids th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6 shapes; asking how many triangles for 12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aring 4 to 18 by dividing just like, in the last slide we compared 6 to 12 by divi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8 shapes and you have 12 shapes and want to know how many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 compared 4 to $10 to get unit price or recognize that 10 is 2.5 x 4 and then use same relationship on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there are 4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21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blem is 4 triangles in every 6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for 21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would baby bear’s lunch look lik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how important array is to show that 4/5 = 8/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obvious at all ; it is less not because there is less stu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ven misleading; some see 1 blue for 4 stars vs 1 blue for 9 stars and don’t know what to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econd picture is more “star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e of an interesting proportional reasoning Fermi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ve by sampling which is where the proportion stuff com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think every Fermi problem solved by sampling is about proportional reas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rmal bat is 83 cm  and normal scissors is about 20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85 cm longer; almost twice; more than half; only double vs around 4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.g. 5/10 red and 2/10 blue and 3/10 ye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ither 4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12CD-D29A-4E55-870D-01828F722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89EE-D2A5-4EF7-90DE-1A9FFACA9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B8CB-7B80-4CF4-97BA-CB7DAACC5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6229-64B8-43C7-93A5-3B571ABFD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42D4-0184-474C-8A24-0F5AF3620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9B63-A071-4191-B7AE-6F083A987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AEC2-495D-4EDF-95DA-F35B07B31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166D-4690-40E0-8765-4A265B0C0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0072-9B4D-4066-91FE-32D1B1097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B19B-0CDF-42B1-9907-832C63E71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6EB0-7D82-48D8-AAE2-9C6CEA324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BAC5-1F6F-4601-89DC-A7FAC363C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9EFE-3199-4083-A075-7D915C0BD7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3E8A-280C-48AD-8998-8C56FF810F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Proportional Reasoning:  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What it Is and Isn’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2800" y="-241200"/>
            <a:ext cx="7358040" cy="1714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xing colou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an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an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ame shade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357720" y="115740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227480" y="3174840"/>
            <a:ext cx="874800" cy="66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821640" y="1273320"/>
            <a:ext cx="93024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7599240" y="3219480"/>
            <a:ext cx="911520" cy="59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473200" y="1157400"/>
            <a:ext cx="992160" cy="108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6"/>
          <a:stretch/>
        </p:blipFill>
        <p:spPr>
          <a:xfrm>
            <a:off x="3357720" y="281772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7"/>
          <a:stretch/>
        </p:blipFill>
        <p:spPr>
          <a:xfrm>
            <a:off x="2482920" y="281772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8"/>
          <a:stretch/>
        </p:blipFill>
        <p:spPr>
          <a:xfrm>
            <a:off x="5054760" y="1273320"/>
            <a:ext cx="92844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9"/>
          <a:stretch/>
        </p:blipFill>
        <p:spPr>
          <a:xfrm>
            <a:off x="5938920" y="1273320"/>
            <a:ext cx="928440" cy="99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10"/>
          <a:stretch/>
        </p:blipFill>
        <p:spPr>
          <a:xfrm>
            <a:off x="5946840" y="290664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11"/>
          <a:stretch/>
        </p:blipFill>
        <p:spPr>
          <a:xfrm>
            <a:off x="5072040" y="290664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12"/>
          <a:stretch/>
        </p:blipFill>
        <p:spPr>
          <a:xfrm>
            <a:off x="6821640" y="2906640"/>
            <a:ext cx="930240" cy="99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2939400" y="2149200"/>
            <a:ext cx="93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2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5977800" y="2154240"/>
            <a:ext cx="93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3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68840" y="3886200"/>
            <a:ext cx="128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2    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13"/>
          <a:stretch/>
        </p:blipFill>
        <p:spPr>
          <a:xfrm>
            <a:off x="4535640" y="3182760"/>
            <a:ext cx="107640" cy="2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"/>
          <p:cNvPicPr/>
          <p:nvPr/>
        </p:nvPicPr>
        <p:blipFill>
          <a:blip r:embed="rId14"/>
          <a:stretch/>
        </p:blipFill>
        <p:spPr>
          <a:xfrm>
            <a:off x="6161040" y="3835440"/>
            <a:ext cx="206280" cy="58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"/>
          <p:cNvPicPr/>
          <p:nvPr/>
        </p:nvPicPr>
        <p:blipFill>
          <a:blip r:embed="rId15"/>
          <a:stretch/>
        </p:blipFill>
        <p:spPr>
          <a:xfrm>
            <a:off x="3089160" y="3825720"/>
            <a:ext cx="206640" cy="59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1"/>
          <p:cNvSpPr/>
          <p:nvPr/>
        </p:nvSpPr>
        <p:spPr>
          <a:xfrm>
            <a:off x="5918400" y="3940200"/>
            <a:ext cx="128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3    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90b00"/>
                </a:solidFill>
                <a:latin typeface="Arial"/>
              </a:rPr>
              <a:t>deliberate use of multiplicative relationships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compa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and to </a:t>
            </a:r>
            <a:r>
              <a:rPr b="1" lang="en-US" sz="3400" spc="-1" strike="noStrike">
                <a:solidFill>
                  <a:srgbClr val="d90b00"/>
                </a:solidFill>
                <a:latin typeface="Arial"/>
              </a:rPr>
              <a:t>predic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1331720" y="1866960"/>
            <a:ext cx="2670120" cy="26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0831680" y="2633760"/>
            <a:ext cx="2652480" cy="26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tive approa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Freeform 2"/>
          <p:cNvSpPr/>
          <p:nvPr/>
        </p:nvSpPr>
        <p:spPr>
          <a:xfrm>
            <a:off x="598320" y="1830240"/>
            <a:ext cx="892440" cy="893880"/>
          </a:xfrm>
          <a:custGeom>
            <a:avLst/>
            <a:gdLst>
              <a:gd name="textAreaLeft" fmla="*/ 0 w 892440"/>
              <a:gd name="textAreaRight" fmla="*/ 892800 w 8924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1581120" y="1830240"/>
            <a:ext cx="892080" cy="893880"/>
          </a:xfrm>
          <a:custGeom>
            <a:avLst/>
            <a:gdLst>
              <a:gd name="textAreaLeft" fmla="*/ 0 w 892080"/>
              <a:gd name="textAreaRight" fmla="*/ 892440 w 8920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598320" y="2795760"/>
            <a:ext cx="892440" cy="892080"/>
          </a:xfrm>
          <a:custGeom>
            <a:avLst/>
            <a:gdLst>
              <a:gd name="textAreaLeft" fmla="*/ 0 w 892440"/>
              <a:gd name="textAreaRight" fmla="*/ 892800 w 89244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1660680" y="2795760"/>
            <a:ext cx="893520" cy="8920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803680" y="183024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3880 h 89388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2803680" y="2884320"/>
            <a:ext cx="893520" cy="892440"/>
          </a:xfrm>
          <a:custGeom>
            <a:avLst/>
            <a:gdLst>
              <a:gd name="textAreaLeft" fmla="*/ 0 w 893520"/>
              <a:gd name="textAreaRight" fmla="*/ 893880 w 8935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"/>
          <p:cNvSpPr/>
          <p:nvPr/>
        </p:nvSpPr>
        <p:spPr>
          <a:xfrm>
            <a:off x="438120" y="571680"/>
            <a:ext cx="8920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1419120" y="57168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438120" y="153504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00120" y="153504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2643120" y="571680"/>
            <a:ext cx="892080" cy="8935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2643120" y="1625760"/>
            <a:ext cx="8920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153040" y="141912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134040" y="1419120"/>
            <a:ext cx="8938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153040" y="2384280"/>
            <a:ext cx="892080" cy="892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6215040" y="2384280"/>
            <a:ext cx="892080" cy="892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7358040" y="1419120"/>
            <a:ext cx="892080" cy="8938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7358040" y="2473200"/>
            <a:ext cx="892080" cy="8938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9055080" y="1009800"/>
            <a:ext cx="892080" cy="89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10688760" y="1009800"/>
            <a:ext cx="893520" cy="89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9705960" y="1973160"/>
            <a:ext cx="8938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0769760" y="197316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11912760" y="1009800"/>
            <a:ext cx="892080" cy="892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11912760" y="206208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9055080" y="59832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15243120" y="59832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14260680" y="156204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5324120" y="156204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16467120" y="598320"/>
            <a:ext cx="892080" cy="89244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16467120" y="1652760"/>
            <a:ext cx="892080" cy="892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5"/>
          <p:cNvSpPr/>
          <p:nvPr/>
        </p:nvSpPr>
        <p:spPr>
          <a:xfrm>
            <a:off x="9055080" y="18720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6"/>
          <p:cNvSpPr/>
          <p:nvPr/>
        </p:nvSpPr>
        <p:spPr>
          <a:xfrm>
            <a:off x="14590800" y="18720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7"/>
          <p:cNvSpPr/>
          <p:nvPr/>
        </p:nvSpPr>
        <p:spPr>
          <a:xfrm>
            <a:off x="13609800" y="115236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14671800" y="115236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15814800" y="18720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15814800" y="1241280"/>
            <a:ext cx="892080" cy="89244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9055080" y="-22392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14590800" y="-22392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13609800" y="74124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14671800" y="74124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5"/>
          <p:cNvSpPr/>
          <p:nvPr/>
        </p:nvSpPr>
        <p:spPr>
          <a:xfrm>
            <a:off x="15814800" y="-22392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15814800" y="83016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7"/>
          <p:cNvSpPr/>
          <p:nvPr/>
        </p:nvSpPr>
        <p:spPr>
          <a:xfrm>
            <a:off x="1285920" y="281304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8"/>
          <p:cNvSpPr/>
          <p:nvPr/>
        </p:nvSpPr>
        <p:spPr>
          <a:xfrm>
            <a:off x="2268360" y="2813040"/>
            <a:ext cx="892440" cy="892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9"/>
          <p:cNvSpPr/>
          <p:nvPr/>
        </p:nvSpPr>
        <p:spPr>
          <a:xfrm>
            <a:off x="1285920" y="377676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2347920" y="377676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1"/>
          <p:cNvSpPr/>
          <p:nvPr/>
        </p:nvSpPr>
        <p:spPr>
          <a:xfrm>
            <a:off x="3490920" y="2813040"/>
            <a:ext cx="8938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2"/>
          <p:cNvSpPr/>
          <p:nvPr/>
        </p:nvSpPr>
        <p:spPr>
          <a:xfrm>
            <a:off x="3490920" y="3867120"/>
            <a:ext cx="8938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168800" y="263520"/>
            <a:ext cx="235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shapes   6 + 6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triangles 4 + 4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-28620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tential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0760" y="1625760"/>
          <a:ext cx="3527280" cy="359856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  <a:gridCol w="1174680"/>
              </a:tblGrid>
              <a:tr h="1798560"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riangl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tween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488400" y="2106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491640" y="29822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 flipV="1">
            <a:off x="3285360" y="2724120"/>
            <a:ext cx="6778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979160" y="213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854960" y="29822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4741200" y="2751120"/>
            <a:ext cx="6778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221360" y="25448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897408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tting acquain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812880" y="2374920"/>
            <a:ext cx="71262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ill Sans"/>
              </a:rPr>
              <a:t>percents in random or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5760" y="3821040"/>
            <a:ext cx="8670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ighbour to guess which percent is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ithin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88400" y="2106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491640" y="2955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285360" y="2724120"/>
            <a:ext cx="6778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979160" y="213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854960" y="29822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741200" y="2751120"/>
            <a:ext cx="6778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221360" y="25448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rcRect l="0" t="7447" r="0" b="36286"/>
          <a:stretch/>
        </p:blipFill>
        <p:spPr>
          <a:xfrm>
            <a:off x="1219320" y="304920"/>
            <a:ext cx="6688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nitiz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704960" y="1893960"/>
            <a:ext cx="893880" cy="892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67120" y="1893960"/>
            <a:ext cx="892080" cy="892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125360" y="2982960"/>
            <a:ext cx="89244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2205000" y="298296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286080" y="298296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367160" y="2982960"/>
            <a:ext cx="8920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928800" y="1581120"/>
            <a:ext cx="2251080" cy="2490840"/>
          </a:xfrm>
          <a:custGeom>
            <a:avLst/>
            <a:gdLst>
              <a:gd name="textAreaLeft" fmla="*/ 0 w 2251080"/>
              <a:gd name="textAreaRight" fmla="*/ 2251440 w 225108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21600" h="21600">
                <a:moveTo>
                  <a:pt x="2246" y="404"/>
                </a:moveTo>
                <a:lnTo>
                  <a:pt x="20477" y="0"/>
                </a:lnTo>
                <a:lnTo>
                  <a:pt x="21600" y="21600"/>
                </a:lnTo>
                <a:lnTo>
                  <a:pt x="0" y="21438"/>
                </a:lnTo>
                <a:lnTo>
                  <a:pt x="2246" y="404"/>
                </a:lnTo>
                <a:close/>
                <a:moveTo>
                  <a:pt x="2246" y="404"/>
                </a:move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oss-mulipl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11220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116880" y="29912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712040" y="3062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83624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962520" y="272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973240" y="2732040"/>
            <a:ext cx="75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11220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4633920" y="2820960"/>
            <a:ext cx="75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0" y="923760"/>
            <a:ext cx="322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This lunch is Papa Bear’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741320" y="4781520"/>
            <a:ext cx="51436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Draw a sandwich that would be just right for Baby B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035600" y="490680"/>
            <a:ext cx="277812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231840" y="1227240"/>
            <a:ext cx="86709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Gill Sans"/>
              </a:rPr>
              <a:t>How does the picture show that 4/5 is less than 9/10?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28592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4296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92888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57184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3232080" y="2697120"/>
            <a:ext cx="500040" cy="490680"/>
          </a:xfrm>
          <a:prstGeom prst="ellipse">
            <a:avLst/>
          </a:prstGeom>
          <a:solidFill>
            <a:srgbClr val="84d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615960" y="3276720"/>
            <a:ext cx="3088800" cy="581040"/>
            <a:chOff x="615960" y="3276720"/>
            <a:chExt cx="3088800" cy="581040"/>
          </a:xfrm>
        </p:grpSpPr>
        <p:sp>
          <p:nvSpPr>
            <p:cNvPr id="198" name="AutoShape 7"/>
            <p:cNvSpPr/>
            <p:nvPr/>
          </p:nvSpPr>
          <p:spPr>
            <a:xfrm>
              <a:off x="61596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54448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190152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125856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205080" y="329436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5143680" y="2678040"/>
            <a:ext cx="3088800" cy="581040"/>
            <a:chOff x="5143680" y="2678040"/>
            <a:chExt cx="3088800" cy="581040"/>
          </a:xfrm>
        </p:grpSpPr>
        <p:sp>
          <p:nvSpPr>
            <p:cNvPr id="204" name="AutoShape 13"/>
            <p:cNvSpPr/>
            <p:nvPr/>
          </p:nvSpPr>
          <p:spPr>
            <a:xfrm>
              <a:off x="514368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>
              <a:off x="707220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642924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578628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7"/>
            <p:cNvSpPr/>
            <p:nvPr/>
          </p:nvSpPr>
          <p:spPr>
            <a:xfrm>
              <a:off x="7732800" y="269568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19"/>
          <p:cNvSpPr/>
          <p:nvPr/>
        </p:nvSpPr>
        <p:spPr>
          <a:xfrm>
            <a:off x="513396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577692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641988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706284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770580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33200" y="701640"/>
            <a:ext cx="867096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Gill Sans"/>
              </a:rPr>
              <a:t>How does the picture show that 4/5 is less than 9/10?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588960" y="2598840"/>
            <a:ext cx="3088800" cy="581040"/>
            <a:chOff x="588960" y="2598840"/>
            <a:chExt cx="3088800" cy="581040"/>
          </a:xfrm>
        </p:grpSpPr>
        <p:sp>
          <p:nvSpPr>
            <p:cNvPr id="216" name="AutoShape 2"/>
            <p:cNvSpPr/>
            <p:nvPr/>
          </p:nvSpPr>
          <p:spPr>
            <a:xfrm>
              <a:off x="58896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"/>
            <p:cNvSpPr/>
            <p:nvPr/>
          </p:nvSpPr>
          <p:spPr>
            <a:xfrm>
              <a:off x="251748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4"/>
            <p:cNvSpPr/>
            <p:nvPr/>
          </p:nvSpPr>
          <p:spPr>
            <a:xfrm>
              <a:off x="187452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"/>
            <p:cNvSpPr/>
            <p:nvPr/>
          </p:nvSpPr>
          <p:spPr>
            <a:xfrm>
              <a:off x="123156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>
              <a:off x="3178080" y="261648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"/>
          <p:cNvGrpSpPr/>
          <p:nvPr/>
        </p:nvGrpSpPr>
        <p:grpSpPr>
          <a:xfrm>
            <a:off x="5081760" y="2527200"/>
            <a:ext cx="3088800" cy="579600"/>
            <a:chOff x="5081760" y="2527200"/>
            <a:chExt cx="3088800" cy="579600"/>
          </a:xfrm>
        </p:grpSpPr>
        <p:sp>
          <p:nvSpPr>
            <p:cNvPr id="222" name="AutoShape 8"/>
            <p:cNvSpPr/>
            <p:nvPr/>
          </p:nvSpPr>
          <p:spPr>
            <a:xfrm>
              <a:off x="508176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701028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636732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1"/>
            <p:cNvSpPr/>
            <p:nvPr/>
          </p:nvSpPr>
          <p:spPr>
            <a:xfrm>
              <a:off x="572436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2"/>
            <p:cNvSpPr/>
            <p:nvPr/>
          </p:nvSpPr>
          <p:spPr>
            <a:xfrm>
              <a:off x="7670880" y="2544840"/>
              <a:ext cx="499680" cy="49032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14"/>
          <p:cNvSpPr/>
          <p:nvPr/>
        </p:nvSpPr>
        <p:spPr>
          <a:xfrm>
            <a:off x="513396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77692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641988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06284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8"/>
          <p:cNvSpPr/>
          <p:nvPr/>
        </p:nvSpPr>
        <p:spPr>
          <a:xfrm>
            <a:off x="770580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60200" y="795240"/>
            <a:ext cx="91440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  <a:ea typeface="Gill Sans"/>
              </a:rPr>
              <a:t>which changed mor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982800" y="2509920"/>
            <a:ext cx="9144000" cy="1838160"/>
            <a:chOff x="982800" y="2509920"/>
            <a:chExt cx="9144000" cy="1838160"/>
          </a:xfrm>
        </p:grpSpPr>
        <p:sp>
          <p:nvSpPr>
            <p:cNvPr id="234" name="Rectangle 2"/>
            <p:cNvSpPr/>
            <p:nvPr/>
          </p:nvSpPr>
          <p:spPr>
            <a:xfrm>
              <a:off x="982800" y="2509920"/>
              <a:ext cx="914400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3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Gill Sans"/>
                </a:rPr>
                <a:t>1          5       vs.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Gill Sans"/>
                </a:rPr>
                <a:t>96        106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3"/>
            <p:cNvSpPr/>
            <p:nvPr/>
          </p:nvSpPr>
          <p:spPr>
            <a:xfrm>
              <a:off x="1600920" y="3200400"/>
              <a:ext cx="964080" cy="472680"/>
            </a:xfrm>
            <a:prstGeom prst="rightArrow">
              <a:avLst>
                <a:gd name="adj1" fmla="val 32000"/>
                <a:gd name="adj2" fmla="val 83095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"/>
            <p:cNvSpPr/>
            <p:nvPr/>
          </p:nvSpPr>
          <p:spPr>
            <a:xfrm>
              <a:off x="1600920" y="2591280"/>
              <a:ext cx="964080" cy="472680"/>
            </a:xfrm>
            <a:prstGeom prst="rightArrow">
              <a:avLst>
                <a:gd name="adj1" fmla="val 32000"/>
                <a:gd name="adj2" fmla="val 83095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731880" y="-115920"/>
            <a:ext cx="768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1¢ every time someone in Ontario sneeze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how long to become a $1 000 000air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973080" y="1473120"/>
            <a:ext cx="3149640" cy="208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581360" y="2290680"/>
            <a:ext cx="4035600" cy="2446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971640" y="3616200"/>
            <a:ext cx="315108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070000" y="669960"/>
            <a:ext cx="500400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3520" y="1972800"/>
            <a:ext cx="7358040" cy="2901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4000"/>
          </a:bodyPr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daily calorie intake that is sn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life that you’ve been a teacher/consultant/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staff that is under 2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38160" y="638280"/>
            <a:ext cx="7124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Gill Sans"/>
              </a:rPr>
              <a:t>Estimate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Gill Sans"/>
              </a:rPr>
              <a:t>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3880" y="179280"/>
            <a:ext cx="7616880" cy="2517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5ca9"/>
                </a:solidFill>
                <a:latin typeface="Arial"/>
              </a:rPr>
              <a:t>What is proportional reasoning?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OWN EXAMPL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Different CONTEX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25152" t="0" r="25005" b="0"/>
          <a:stretch/>
        </p:blipFill>
        <p:spPr>
          <a:xfrm>
            <a:off x="510552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st two cam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3795840" cy="4589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69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big ideas in algebraic thinking and proportional reaso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9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using open questions and parallel tasks for DI and richer mathematics class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5ca9"/>
                </a:solidFill>
                <a:latin typeface="Arial"/>
              </a:rPr>
              <a:t>and now</a:t>
            </a:r>
            <a:endParaRPr b="0" lang="en-US" sz="6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2011----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cus more on how to respond to student thinking in these area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3520" y="321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s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66968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wiki and in the program bookle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554560" cy="191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418680"/>
            <a:ext cx="735948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w long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327636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different ways to compare their length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is better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549240" y="267840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7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834320" y="2589480"/>
            <a:ext cx="83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9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233028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PINNING </a:t>
            </a: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2712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86cd4d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8500af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bafb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c971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3eb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 with a partn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ate a spinner where you are likely to spin 3 more reds than blues in 10 sp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many more reds than blues are you likely to spin in 15 sp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661160" y="144612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7:58:58Z</dcterms:modified>
  <cp:revision>8</cp:revision>
  <dc:subject/>
  <dc:title>&lt;Title&gt;</dc:title>
</cp:coreProperties>
</file>